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dt" idx="83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 type="ftr" idx="84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 type="sldNum" idx="85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657E-BEBA-4B1F-858B-311A4FA3EC16}" type="slidenum">
              <a:rPr b="0" lang="en-Z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9070-EC40-4420-BA15-2FA407B182C4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437D-DC5C-4F8E-A107-C7C31E37DD39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6267-C2F6-42F2-B9BB-4FB8FE355621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83AFF-B464-4E46-BF0E-040BC2CC00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2E44-DF91-4599-936B-8A657357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3F1EB2-F016-4644-A9C2-6E2033AD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B32540-1A20-4200-BA27-5528BF73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9C6A58-35F5-4773-ACA5-E45400D3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4494F6-9683-46D1-835B-26B4F4EB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7CD526-DA6F-4CF9-8125-5A6C6D46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A36624-9CD5-4CD4-85CB-B1540069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788CC8-5244-414F-88FD-DBE9E334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0DA267-4BEA-469B-A765-A83CC8E6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CB86F6-45E1-4BE4-B5EB-38DA80F5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983ED4-E5FF-466E-9574-A46EBAD4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DC3D-336B-43B8-B9DC-3A60CA1C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E8604F-31CB-46A0-96AD-51F8031B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4D22BB-209E-4757-90B9-80BB568C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A4C928-7E8A-4CD9-92C7-040978EE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63FC81-0E4D-460C-9C55-92E17B0A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566241-B105-4D93-919C-31A407E9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FC2EE2-CD51-42CB-83B9-B5E86921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3722C9-2170-4E49-A38B-AFEF290A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D3B067-0319-456B-B709-E858E150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188403-3EFE-4F45-A73C-C55C916A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A6B16D-2C83-4B20-9812-926ED3FE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98FD-463F-4F49-ABB6-372209FF99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A1752D-0CBE-4511-BDAD-5D8331A5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752C1-CDAD-45F8-9D94-913B6CE9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395F2-240B-418A-B17F-9D0D59AF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84C28-B393-4EEE-BAFB-71CBFD49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206E2-C186-4B0F-94E3-861CE05E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719D8-5DE4-426A-BCF7-5B54C2C6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BEB33-085B-44CE-BDA2-62B6637E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A93BE-CD66-48B5-B3DF-FD61994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6D5DA-6991-4010-A363-05E166AD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B1175-A259-4994-A863-4F0CA67B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A3272-688A-4AFE-9FE2-8B6FF4C6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24B3E-6BE9-4D59-94F0-8C88B773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AE260-BC83-4346-9B73-7BC16FD6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D1555-6731-419D-A9F4-0F5E263E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E05D3-D71C-4A86-9CB5-67775951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B4EB8-8DD8-474E-9D09-C2C9FED2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4A735-0A29-4641-972E-C204DE1D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256E1-FA22-46C4-9ABF-A4015073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96EE8-932F-4EFB-9D0B-82CA9815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E427F-8CD6-4BF8-94F7-C83A1E87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7DFB8-CD74-47CD-8AE0-5714CF40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96C2C-8EE2-4C70-979D-2A63AC74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858FF-6685-4BF9-B1B2-A48E4665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FEE80-1289-42BD-8C01-0CACCD6D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2E844-5A1A-4CFE-8F43-783B290F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5C93EE-4291-47AE-87C4-F1EA5CF3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48EC29-03F2-4BF3-B3B8-291C3EE0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5093CA-DF40-4CB3-B2F2-8525F5D2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B45EE3-C487-45CC-BEE7-B8F23C8E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58E661-3905-4585-A40A-EBAE3A12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6F56FA-A9CD-4432-8B6D-5E23DBEC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8019BD-C6F7-4B92-A132-0F526570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C4B4DA-42CB-43A7-903C-282BB022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4A36C2-75AC-4965-B14B-D348916A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EE69EC-4010-4667-A75B-C3530B8E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A032F2-1011-4429-B948-5D95B73B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844AF4-6C3F-4F04-938F-4A9C2D77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705C6-E4AA-4440-93F6-33C530ED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F11B4-C1CA-4A2B-8BE6-3A82D402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A9E40-B9D0-4A1D-A493-8BA17EEC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7E004-208E-40C2-9FD6-DF9684E8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C8531-E98D-4219-BDA5-91456268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905BF-8261-4CCC-9864-293474D8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108CB-54A7-435B-9B90-ED19785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AE5AF-095A-4C5C-908D-7B3F09D9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F997A-B60A-4704-B4AC-F09EBE1A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7F425-5E24-4B30-A9D0-B4DA821F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CA9C2-DAC5-44BC-92F2-52A9B0E4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86DB3-B8C4-46D6-9747-8E2510A2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1EC673-E96E-4690-8870-2E2A6225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075D30-2993-44C5-B577-B60A5791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0847D7-4369-4CBD-88BC-8A8B60BD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A3259A-0138-4239-857D-1081B736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DE63B6-70EB-49FD-B662-AA2206C9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3CFB5E-B5AE-44A7-87F7-17B7E1FA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02303D-7BF7-4BFE-B00A-F562DD11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CA1896-8D91-4BE7-8E96-F59FE3AB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3FD788-52FB-43D1-B5A9-509C9C46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17AC6A-20F7-4C13-9B8C-804CCE20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8A3BB9-451F-4147-87B8-672E3088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AEBA19-025F-4CB5-A810-309ADDED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F10AB3-0227-4228-AA9C-B88F9268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81B187-CE23-480E-A130-A1718E68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E8D1C4-BAEF-41C7-9D6C-62BEFA55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87BC95-DA35-4EA9-A1C5-ECEA4FA9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F911B7-FED7-4757-81E6-2B2DBE92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EFA026-8073-473E-9E6C-5438A229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6DD484-70BD-4C44-8E50-85272F1A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4FCAF3-6315-4DFC-87A2-F431B218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BB45C9-46D7-4BE0-B5EC-6399C451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DBF63E-C27B-4CC7-BF82-E1800857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4B0D1F-1A89-4FFD-985E-22C1552B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D991C1-5E89-40E8-B1CB-2E4824A6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78909D-B514-4272-A247-6D355DA8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4C7C5E-7F1C-485D-8BAB-52CDC502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624CD7-92BD-44F4-AEA5-F89C6715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D9CF62-7250-4040-8376-DA241A9A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FFDDE6-462E-4ED2-A851-E54289F7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F0E692-2279-46AD-B57E-8E011E8A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0D0763-295E-486D-8B83-A37AD27C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391D-418C-4529-9E72-421EEE78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420F6A-E245-40EA-B303-8161C8D3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1B0EE3-84EA-492D-A546-DD8E4C3F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18A953-DB77-4640-819A-FEDC848F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F0784B-ADBF-40BE-9324-7F82A571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19ADA1-2F9E-4E2F-9ABA-3B1B4BE2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B1E310-4F37-4BEE-9905-DEEA663D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93FF7A-4869-4005-AC1F-C08E65F6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129199C-1EDF-49BA-A9D2-F7F4F505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F7BCC0-E547-4D9F-B638-1400EBAF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7B6B900-4894-4361-BD71-08A35663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F79BFE-79F8-4458-BB9E-B140FFD3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42250C6-6FB8-4D08-B6B7-93B98EE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7F6DCBC-DA6E-4D03-B0EB-939A4936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83D23D-68AE-498E-8D79-34ECF39C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2C6A39-C8E4-4492-9C5A-7EC70A90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FDCB0BB-FAB3-45BF-9217-7EEB5545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6D8E01-F885-43AE-AF4E-49D37CC6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33C8763-1ADF-4E0F-B84E-8A183B2E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C846EC9-FFC0-47F5-AB93-1BFBFFFE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0AD4B60-5EBC-4D9B-9E44-F2A77F1D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1A75F6B-F0B6-463F-A02D-D53DDFBB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FD67CCD-FA39-4493-9048-FC1C7F92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76A8F73-1A41-4D84-9838-10494853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3C40BC2-3793-43B9-A95D-D1FE6CB6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D102303-A1E7-4B75-B4A1-23479EC7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A06866F-003F-48BD-A1CE-CCF39B83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BE471-07C7-49D7-844A-440BB13E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52CBB1C-B931-4524-8348-DBDD77C9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1F461A-2886-45BA-B486-27637719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C7DC49C-CB85-43F0-A716-B5D546D6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4407E-C7AA-4E18-B228-5DE3BFB5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9B6C363-30A7-4A97-BE6C-0A150C07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76A9A49-4FF6-49D4-9EFD-EEA818EB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3DD54C0-23F7-4F45-ACE5-5D1611FA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BE0F130-F0EA-45EE-8870-2CF95DF4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FFDBECA-496E-4EC9-9E51-DA265454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34503-BF4C-4383-A60A-034CB8B7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0EF3A2-7737-4D5C-81CE-403515AB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4ADC515-257A-499D-914F-77E8E42F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8976CDF-A43F-4556-AA33-E8CEBE46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7340B0-BE64-4DA0-9D21-F2D4DCA8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947999-522B-41F9-8894-A6404C22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5F98AE-71B5-4A43-8798-8291D48C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416642-E073-4BD7-8F77-537E0B14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CCDE8A1-1DE5-4AD6-AD93-EE4C275C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E62496-70D9-4350-984A-89DF8B7F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6C85CF-D2CB-4358-AE56-8F230CE1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9F5FC-1DCD-4C24-BB18-B7BBDB6F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3402768-08D2-4EB0-971A-66D8E2B3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3730A3C-221E-4950-AA1A-717663F7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E91A3AE-8DBB-4472-BB71-1DDC02BE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7C1D28C-7474-4102-B9F9-99C0B28E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71FBA7E-2582-437C-981E-70EBF8B2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4BA2D45-7AE2-4D64-AF44-F00AAEAE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950CDBC-879D-4711-B00D-7BB6484B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22A9604-F4AD-44E7-B40E-4662F456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61586FB-57EC-4FF2-A390-5D8154DE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A7392BB-0A5A-41A4-B4F5-AC92A933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EF3CA-0CE3-4B7F-B24A-42C1F91A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7E02128-E144-472D-9A86-4BE5BE23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5D96907-FE59-48E3-B2FF-57EADA16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43E4005-806A-46E9-B0F8-F373B403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F65C8D-0F2A-4F44-9924-2DF88952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EDF37F-45B7-492F-8B3C-05E4682D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2E8C6EC-68AB-4142-B65D-C727B623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CB839D-5DBC-474F-B189-EFA27207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BBCE9F9-2479-401A-AB2D-A0FC38D1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BDC83D-4AE1-433E-8411-20AF32F0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BCDEDE-430C-425C-87F4-6EADC091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D8F7-9FBE-450E-8FBE-6A97A65C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506A3-2DDC-436C-9D9D-06B3E299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E12B71F-0E5E-4010-820D-7F7008DB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7A250FF-988F-457C-9662-CEC623BD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7D5093B-D2C6-4BD0-941B-4FF12CEE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B02C7A3-2076-4C2E-A0F5-FCB2A7D2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B154A70-D2AA-42DA-84C3-94EFFAE6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36A4FE-1632-4873-B239-4C6085EF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E1021B6-DE5B-4379-942D-A3A812E6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B2D7BEB-2AFF-49E6-BE7E-E7A97B55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9B2B58C-F114-413C-8ACC-EB6CBFAD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F8D1BCC-9105-4FAA-9FB0-7FA6CAC0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54448-2AFF-40C4-893B-0773607E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37EA959-AB17-4A05-A072-154073E5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96C215E-CC98-4F74-9B11-7A266212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832E66-1EEF-4F3B-9EA6-384B2A73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8198DAA-6C15-42A8-A096-FF18C3C8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B1B7347-A8EC-42FB-892E-751212A8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18FA097-F7D7-4C70-9378-2255D2C5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8775D05-436B-4C48-AB11-6D3B8EC2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F0A0416-A3C6-4E05-B3AB-B09FD1A2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88E794F-89CF-4556-A0EA-45284A2B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DBD1333-F902-45EB-9AD7-5C8D946A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1A54C-B9A4-46A0-B28D-BC2AA7E4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3814ED0-4F60-458C-8CDB-1FE0B16E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188E629-C841-470C-885D-AD7BB269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908BACB-6105-4CD8-806E-9FF285C3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65F028D-7BA4-4916-85A5-CA79F899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33F4866-6A74-4B32-99A3-07027AEE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14267C6-4935-4F77-932B-9D7EC8D0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FF83ACB-ABD1-4F8D-AA90-EC4CEC1C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2CF144E-3062-49E7-AB4A-3EF49A08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105ACA6-5A9F-4508-AF3A-17AB382A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AE98863-E4B5-492D-A56C-E18A0AA4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132F2-CF2D-4727-BA5E-3DE4A4F8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908C789-0DE6-43EA-BDC4-F0849140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B34BDDB-E5D5-42CA-9C90-8A54CCF2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CF09174-E728-47F9-9346-CAB15CC9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8F746BD-395B-4E22-952D-22A97054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4AE4326-26E0-4AAD-92E8-EEC3757C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D40A1F5-9533-4558-A1DE-99001A89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D2511C3-784D-4C6E-A5D8-80A9DFF0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5E76BF5-3A9B-48AB-8918-0BA4C577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82C0A8F-6E97-499D-8360-8B485CC4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A0A036D-DE65-4ABE-B243-44B3F63F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ACF2B-0414-4EC9-833B-EA8BB17F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C53BF50-C5CA-4A53-B104-00411415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C46BA05-5872-44C2-A5E8-34EEECBF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3900A25-CDEF-42DA-AEB4-05E7C410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6651879-C396-49B7-B043-69790251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0FC6F8E-FEFB-43A9-A3CA-48A3878F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751D9A1-9948-47E6-A97B-022B3799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2617E38-4A56-46BC-8304-04AB715C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FB17174-C641-4CFD-9914-892FD0E2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45A7F85-6D8A-4A57-9A06-332AF034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CFCC12F-4831-43F3-A08E-C722D645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A4945-CD83-4283-B94F-578C6533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7CC2E1B-4034-4BE9-A981-79B4460E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5C4F05D-D96A-4097-B052-4E498987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C2A6A9B-E8C9-43ED-B010-0532EEA6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1154C62-5E70-4680-A60A-EC4EFB68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B7A7E31-F2F2-46A5-8468-54792C75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7835945-3605-4D29-A833-F8D2A33B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52BFE38-F17C-4399-821E-C4802C66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B6FF31B-F8A3-471E-B59C-D88F59D7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9BFCD74-297A-4688-96D3-FF8D3351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A67D8DA-0A48-43BD-8ECA-8B2C1F27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3E7AB-3238-4D61-961B-D56DD502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DEA2ED3-5B72-4AE9-9E21-11428CC1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3AC4AF3-E98E-4D2C-9093-0848288C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E40B746-EFDA-4E1B-87C7-A0C3080E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D947F6C-BB5B-4638-BC23-EC0B06A9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3E37C45-1A97-4151-BC86-F5464C45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41F134F-7B20-465C-8EEE-7858DE5C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4756DE9-CAE0-4B5E-B47E-B2E0E469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8C22E54-5413-4E34-BF4E-52A2DD33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4FD0B3F-B006-4509-A517-83632947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F5106B0-9A20-441D-85C6-7BDAD0D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A99C6-0C1A-4841-BE57-3274E73F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E9A1B46-5A74-49AC-B3DE-A1E48832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1E7AB94-16C6-4DAF-916C-B0019B77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0616D82-9A8A-4659-8E2E-F33AAA10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B80549A-D199-4D0E-AFD6-8C193422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8263E31-8434-4B76-8FAA-DF4E4A5F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25E4F2B-AA80-493F-BAB9-1339352C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81D2B3A-2AB1-43E3-91F9-CBBD96ED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FFB5167-F391-4D1B-805A-9F5ACD4C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32A953F-D836-464E-AECC-B50CA292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67AE554-F3E4-4586-BF89-BD79CB77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A44D5-0508-4BD7-9C9F-6B8EB0A9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5F4DE27-C599-48D4-9284-9D048E0B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D2D2052-C314-49AC-8F9C-FB157A3C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724AC9F-DD74-4C9E-B3E4-E01D0527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F24C0CF-0407-4CF9-8573-BAD0092B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7431D72-94F0-405F-9105-C5311AA3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1ED66F8-56F1-4076-9E9D-7B633874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ED31486-1DA7-4805-A6FB-D3FD32A5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D272A91-BD05-45BC-A41E-5C7BD2FB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4C2A775-37CC-4254-932D-67A2DBDD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FDA66CF-B566-4D00-8F77-4C03F32C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EE166-3794-4162-87C2-95A3DD1C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79469AE-35CC-4D6F-A2E6-2568FFDA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4B0502B-FE29-47A3-86D3-D133E7FF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09AF7DE-6441-40EB-9AE6-D09A56EF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F202AFD-764C-44F3-AFC2-1911F740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02C7B09-9AB8-46CF-8537-D958924B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5D6838E-77BC-41F5-BBB0-D5264620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5BB871F-8072-48AC-9EE7-CFEFB025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1965-C0FA-435A-8D74-BBC21858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4E7BC-F63A-47DF-AB60-F8CD90F5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3F93C-359C-4B78-8D3F-260594D8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51218-2984-4389-9344-B835152F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3A97D-4C8E-4634-B7A4-8EA2AC4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FB898-C901-4FFB-8904-41EDCFA8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6E9C7-BCB9-434E-A6FD-03C737DE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C8987-962F-4BAB-BC4A-987E946E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0943F-0C5A-48B0-8A2C-D264A7B5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0C2CF-0B10-4D38-BDFF-76579BE3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A7B44-69C7-45BC-AF49-0F3803280F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522E-9C05-43E8-A75E-6BDD283B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DF93B-C667-416D-AC08-84E0FC11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814D7-F764-4AB4-BF36-8025029E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3BA57-1C22-4E29-9355-10C78E4B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DB818A-DF06-48F2-8CFC-DFCB9533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AA2B2-9D46-48D3-B2B8-9422116F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D4E75-0221-4AAE-AD3F-EFAC3E89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509345-2A9D-49CF-9464-9FA50094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FDD963-99DD-463B-8F4A-0DB7B656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7ABCB0-A93F-4344-AF4F-88923535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B5219-A1B1-41B1-BC64-3F5FEA02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315AF-573C-49A7-8E7A-4F67A534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9B9D4-FD3D-4AAF-A781-849FA78FAB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FAEA93-6718-481D-990E-68C386AE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B762D3-F16B-4F76-B236-1F4601F8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58DFB6-E210-45DC-822D-132686FC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CC7753-E5A8-4F77-ADB1-CF0E3434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E2A350-BE9A-462F-B18F-C80DBC23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981DF4-D4F7-49DA-BCB1-6622B2DB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CFBBE0-07E7-4C19-ABB0-8EF8A44D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6BB64F-3765-431C-AD52-2F4BD59B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2E2B40-BD05-4E65-BAB9-36FA8762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4E5D-48F8-4E6B-8046-85B7C908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8AEA67-FE37-45DF-9F8E-C33263A2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6E0057-7D48-48EF-8045-6A27AF3F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44EC41-478C-4A79-A8BD-20E50ED4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B317-3DE6-4E49-B67E-24B38672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439B57-56A8-4BD5-8A7E-2A2E6215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8B623D-22E4-4318-9D50-12703010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3A032E-C2FD-4AD0-B193-F0D9AF23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7F02D1-C575-4101-8FF5-B6A52C07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8C0688-C391-4638-88DE-8B35AD66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CEC5-92FB-47A7-A58E-755AF438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358CEB-FCBB-403E-8245-89B40429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22688F-73FA-40EF-8104-347531B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792BAE-159C-4AF3-B214-DBAD66F4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53CF08-4266-4302-89B2-00C7CC82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1DB5DD-FF80-40FE-B4AB-CE6993E8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950CAF-CFC4-428B-BEF2-DA483E9F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AD25EA-68E6-45CB-8997-A88A0DEB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9C5797-30DD-40F4-80C6-EC019686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262A59-2544-41B5-AEC6-6E4C98DC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77F6BE-0554-4966-B85E-B68E4129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FC6D-6154-4688-A9CC-C0BC4DDB72A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925D-F1FE-4477-A704-B2BD0CBC7F1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DF99-B9DD-4051-9022-3C26C4D4E83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2635-5BB7-4A0A-B53E-EBCAB3221C0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CDD9-7DD1-4C9E-B7AB-A5A3A11A3BA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79E7-F485-481C-B250-D9C21E3ED93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19DA-1A4D-4BF3-AEBC-CBC565C3BA5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F3F5-3B71-4DDB-BC96-9F9CF35B2A0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0E05-8F52-4E80-BF72-EA003E03CA64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2686-5058-4780-AD25-C94A72C3D9F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9676-6CC2-4C4B-A766-EBAA67980D6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2E21-1262-4EA2-8EB9-2F611A5C3C5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3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36C7-F01C-41E0-9629-F6197A3BFF3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3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C940-6514-45FD-8D0C-C491D40798C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3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DD08-3EE3-4C8F-8382-67914E7F445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3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35CB-A3E4-4513-9D17-260E2A60414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A135-D8BC-4F1A-B21C-7F662E102AE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4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4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3970-3440-4889-ACEE-7A7A31D94C4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7EA3-D581-410F-9F04-CA50B593BF4F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4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4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984F-AC63-4EE3-9C34-6A0520181C4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1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13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9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" name="Picture 148" descr="logo small"/>
            <p:cNvPicPr/>
            <p:nvPr/>
          </p:nvPicPr>
          <p:blipFill>
            <a:blip r:embed="rId8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3" name="Picture 23" descr="dd"/>
            <p:cNvPicPr/>
            <p:nvPr/>
          </p:nvPicPr>
          <p:blipFill>
            <a:blip r:embed="rId9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9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9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BAEF-6B27-4D5A-A3FC-598BD08BC54A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BE99-DFED-4C82-A84C-A585C0C6606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120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122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4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2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3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4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5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6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7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8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9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0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1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2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3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4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5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6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7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8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9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0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1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2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3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0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5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75A5-1A07-4965-A56D-D78C14CECC4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5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5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88D1-4E71-4196-BF35-14B6725243A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5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1F50-D865-49FA-9ECE-5C69B4A049A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5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5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F735-3210-4D36-B2EE-049F171EA3C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5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BA99-2863-4943-8BA4-755AC0E413F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5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5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94B9-F998-4503-A38F-39BA2468271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5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B63F-281F-4B5E-A0FC-77DA6B2F7F44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6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6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B4FF-C216-4FB0-AF8F-41307BF8289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6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8525-6B06-4E21-9CD4-3363B83FA6F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6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6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1CFB-AB22-45FF-9ED1-D4CEC5AC862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6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6A8B-E7BD-40E8-AF5F-8B3C8B2E1223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6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6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0C38-7E84-4B2D-9E11-840DCA83009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6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4CA7-5CFC-43C2-889B-399CB487B664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6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7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A73A-39E2-426C-AD5B-A822346242C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7AD3-DA32-4A49-AA89-D040C8D977B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5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3829-0CB0-40B2-862B-778008FCCC9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7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B9A6-1C76-4873-AD0D-D9B509E6466A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7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7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A851-CCFF-40AF-9888-193A60761EB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7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CDA5-C76F-4686-A0AF-821A0BE9FA8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7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7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A335-C7D5-4F15-ACC5-D08EE618A64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7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6BFB-E7E5-4655-A35A-A799ECCE228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7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7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CA06-611B-4E9F-BFB0-4347E5F5EBD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 type="dt" idx="8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8A76-C81D-4043-83D9-D2C37A628EA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 type="ftr" idx="8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 type="sldNum" idx="8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4298-B477-4CEF-92D9-A3E7B546188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ECFE-5FCD-4550-B3E7-E199530CBCB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E668-4ECB-4B0A-9C98-E09B45F2D80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78BD-9EC3-4F82-927C-BAD2EC0D483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31E9-A468-4297-B8A7-F45C8EFA587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6278-D368-49C7-AC6F-0AFB523332C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B036-9C5D-48B7-8AB9-25177629857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3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3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C415-D265-4659-A062-89FD1B2F453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C4AF-11C9-4A2C-93ED-5C3ED62410E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A3B2-4A16-4643-97EC-4E441F2C5B3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8BB9-BB5F-489A-BE71-F16C53F7EC6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003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694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695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697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169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3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1704" name="Oval 102" descr=""/>
            <p:cNvPicPr/>
            <p:nvPr/>
          </p:nvPicPr>
          <p:blipFill>
            <a:blip r:embed="rId2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5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6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1707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8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9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0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711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2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3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4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5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6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7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8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9" name="Oval 118"/>
          <p:cNvGrpSpPr/>
          <p:nvPr/>
        </p:nvGrpSpPr>
        <p:grpSpPr>
          <a:xfrm>
            <a:off x="974880" y="706320"/>
            <a:ext cx="1109520" cy="1109880"/>
            <a:chOff x="974880" y="706320"/>
            <a:chExt cx="1109520" cy="1109880"/>
          </a:xfrm>
        </p:grpSpPr>
        <p:pic>
          <p:nvPicPr>
            <p:cNvPr id="1720" name="Oval 118" descr=""/>
            <p:cNvPicPr/>
            <p:nvPr/>
          </p:nvPicPr>
          <p:blipFill>
            <a:blip r:embed="rId3"/>
            <a:stretch/>
          </p:blipFill>
          <p:spPr>
            <a:xfrm>
              <a:off x="974880" y="706320"/>
              <a:ext cx="1109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>
              <a:off x="1138320" y="870120"/>
              <a:ext cx="784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2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72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6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72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3" name="Oval 128"/>
          <p:cNvGrpSpPr/>
          <p:nvPr/>
        </p:nvGrpSpPr>
        <p:grpSpPr>
          <a:xfrm>
            <a:off x="480960" y="3224160"/>
            <a:ext cx="1805040" cy="1817640"/>
            <a:chOff x="480960" y="3224160"/>
            <a:chExt cx="1805040" cy="1817640"/>
          </a:xfrm>
        </p:grpSpPr>
        <p:pic>
          <p:nvPicPr>
            <p:cNvPr id="1734" name="Oval 128" descr=""/>
            <p:cNvPicPr/>
            <p:nvPr/>
          </p:nvPicPr>
          <p:blipFill>
            <a:blip r:embed="rId4"/>
            <a:stretch/>
          </p:blipFill>
          <p:spPr>
            <a:xfrm>
              <a:off x="480960" y="3224160"/>
              <a:ext cx="18050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"/>
            <p:cNvSpPr/>
            <p:nvPr/>
          </p:nvSpPr>
          <p:spPr>
            <a:xfrm>
              <a:off x="746280" y="3492360"/>
              <a:ext cx="127476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6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737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8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9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0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74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7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1748" name="Oval 138" descr=""/>
            <p:cNvPicPr/>
            <p:nvPr/>
          </p:nvPicPr>
          <p:blipFill>
            <a:blip r:embed="rId5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50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75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54" name="Date Placeholder 1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F3B2-FB68-4DAD-A048-7AB4DD8F3F50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5" name="Slide Number Placeholder 4"/>
          <p:cNvSpPr/>
          <p:nvPr/>
        </p:nvSpPr>
        <p:spPr>
          <a:xfrm>
            <a:off x="7196040" y="6553080"/>
            <a:ext cx="1650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D22-E1FA-4BFA-9697-7189FA212EA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6" name="Rectangle 59"/>
          <p:cNvSpPr/>
          <p:nvPr/>
        </p:nvSpPr>
        <p:spPr>
          <a:xfrm>
            <a:off x="3032280" y="1084320"/>
            <a:ext cx="6173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25b"/>
                </a:solidFill>
                <a:latin typeface="Arial"/>
              </a:rPr>
              <a:t>CLARIFICATION  MEETING: QM58 CATEGORY 4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TENDER NO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ce planning and interior design consultants at MWP, EAL And ERIC Building in Rosherville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DATE: 2022/09/16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725b"/>
                </a:solidFill>
                <a:latin typeface="Arial"/>
              </a:rPr>
              <a:t>Bongi Tshabalala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107640" y="1125000"/>
            <a:ext cx="870732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py  of the Category 4 Quality requirement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ategory4 Quality Requirement - Explanat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ion of : 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A1 Method Statement and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Templates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: A1 Method Statement and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B445-6527-4BA1-9305-CB66D21BBA2A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8432-DB48-4F53-868C-AE24A4714A6F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 of  Quality Requiremen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2" name="Slide Number Placeholder 3"/>
          <p:cNvSpPr/>
          <p:nvPr/>
        </p:nvSpPr>
        <p:spPr>
          <a:xfrm>
            <a:off x="3132000" y="6453360"/>
            <a:ext cx="2880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8537-799D-4B81-BB95-A6C8CDD6E8C2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63" name="Picture 5" descr=""/>
          <p:cNvPicPr/>
          <p:nvPr/>
        </p:nvPicPr>
        <p:blipFill>
          <a:blip r:embed="rId1"/>
          <a:stretch/>
        </p:blipFill>
        <p:spPr>
          <a:xfrm>
            <a:off x="217440" y="1341360"/>
            <a:ext cx="824220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F492-9AFB-4CFE-AB1A-79DF73ABF11C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5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7D61-6F06-493D-B7D8-65A962B18CDB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Out  standing Quality Requirement  - Category 4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7" name="Rectangle 2"/>
          <p:cNvSpPr/>
          <p:nvPr/>
        </p:nvSpPr>
        <p:spPr>
          <a:xfrm>
            <a:off x="30240" y="1011240"/>
            <a:ext cx="87850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A: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1  Quality Method statement based on scope. -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NB  Use   Eskom Quality Method  Template as a guide.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(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1" lang="en-GB" sz="1400" spc="-1" strike="noStrike">
                <a:solidFill>
                  <a:srgbClr val="003896"/>
                </a:solidFill>
                <a:latin typeface="Arial"/>
                <a:ea typeface="Times New Roman"/>
              </a:rPr>
              <a:t>240-126469599: </a:t>
            </a:r>
            <a:r>
              <a:rPr b="1" lang="en-GB" sz="1400" spc="-1" strike="noStrike">
                <a:solidFill>
                  <a:srgbClr val="003896"/>
                </a:solidFill>
                <a:latin typeface="Arial"/>
                <a:ea typeface="Calibri"/>
              </a:rPr>
              <a:t>Method Statement Template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2 Quality Polic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Approved by top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management.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</a:rPr>
              <a:t>Commitment to: meet customer requirements / expectations; continual improvement; satisfying all applicable requirements including statutory requirements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3 Quality Objectives (KPAs/KPIs)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Approved by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top management.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SMART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B: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B.1 Documented information for defined roles, responsibilities and authorities 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Organization chart 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/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Organogram and  Responsibility Matrix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(must include but not limited to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quality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management function/role) (Clause 5.3 of ISO 9001:2015)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B.2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Documented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information for Control of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Externally Provided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Processes, Products and Services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Describ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how you  ensure that work completed b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external parties ( Sub-Contractor, Suppliers, Consultants, etc)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omply with the requirements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Must include criteria for evaluation, selection, monitoring of performance, and re-evaluation of external providers (Clause 8.4 of ISO 9001:2015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C: </a:t>
            </a:r>
            <a:r>
              <a:rPr b="1" lang="en-ZA" sz="1400" spc="-1" strike="noStrike">
                <a:solidFill>
                  <a:srgbClr val="ff0000"/>
                </a:solidFill>
                <a:latin typeface="Arial"/>
                <a:ea typeface="Calibri"/>
              </a:rPr>
              <a:t> To Complete and Sign </a:t>
            </a: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Form A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 A1: Method Statemen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69" name=""/>
          <p:cNvGraphicFramePr/>
          <p:nvPr/>
        </p:nvGraphicFramePr>
        <p:xfrm>
          <a:off x="179280" y="1052640"/>
          <a:ext cx="8425080" cy="5499000"/>
        </p:xfrm>
        <a:graphic>
          <a:graphicData uri="http://schemas.openxmlformats.org/drawingml/2006/table">
            <a:tbl>
              <a:tblPr/>
              <a:tblGrid>
                <a:gridCol w="3240360"/>
                <a:gridCol w="1728720"/>
                <a:gridCol w="936360"/>
                <a:gridCol w="638280"/>
                <a:gridCol w="297000"/>
                <a:gridCol w="720720"/>
                <a:gridCol w="863640"/>
              </a:tblGrid>
              <a:tr h="526680">
                <a:tc rowSpan="4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statement  Title </a:t>
                      </a: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( Title as per tender/RFQ tit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ll Name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( Supplier Representative Details 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iginated b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ed b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 applic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d by: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 applic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ignation ( of the compiler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 No ( of the compiler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ent </a:t>
                      </a: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(Division/Operating/ Business Unit as per tender RFQ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nder /RFQ Number/ Contract Number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Detailed Description (type in the information required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 Document/ Procedur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/        Dept./  Disciplin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02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ope of work as described in the contract </a:t>
                      </a: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document/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der/ tender 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Outline the scope of work as detailed in the Works Information of the NEC document/ RFQ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 Narrow"/>
                          <a:ea typeface="Times New Roman"/>
                        </a:rPr>
                        <a:t>Note the relevant document ref number ( if avail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 Narrow"/>
                          <a:ea typeface="Times New Roman"/>
                        </a:rPr>
                        <a:t>Relevant discipline (if any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ctives/ Outputs / contract objectives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List 2-3 objectives  (SMART) in relation to the SOW outputs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ustomer Focu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The primary focus of quality management is to meet customer requirements and to strive to exceed customer expectations. How are customer needs identified, and effectively communicated to affected personnel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How are customer needs identified, and effectively communicated to affected personnel in the organisation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mpetency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empowering and engaging people throughout the organization to enhance its capability to create value. What Human Resources, training and authority are required for delivering this SOW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Provide details of skills/ competencies and training required to deliver the tender/order Scope of work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3896"/>
                          </a:solidFill>
                          <a:uFillTx/>
                          <a:latin typeface="Arial"/>
                          <a:ea typeface="Times New Roman"/>
                        </a:rPr>
                        <a:t>Infrastructure:</a:t>
                      </a: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PPE required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PPE that is required in executing  the scope of work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FE25-AA23-432A-BCAC-149997116A08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A4DE-47DA-4F3E-9FF3-9A127C14263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2" name="TextBox 2"/>
          <p:cNvSpPr/>
          <p:nvPr/>
        </p:nvSpPr>
        <p:spPr>
          <a:xfrm rot="19546800">
            <a:off x="2463120" y="3479760"/>
            <a:ext cx="70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 be Completed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220A-38F1-4A4C-8015-7ED4B7DC21C6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0448-AD05-48E6-9012-5A3AF420A608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75" name="Picture 7" descr=""/>
          <p:cNvPicPr/>
          <p:nvPr/>
        </p:nvPicPr>
        <p:blipFill>
          <a:blip r:embed="rId1"/>
          <a:srcRect l="36946" t="32564" r="35349" b="14710"/>
          <a:stretch/>
        </p:blipFill>
        <p:spPr>
          <a:xfrm>
            <a:off x="1652760" y="1125360"/>
            <a:ext cx="5079960" cy="5661360"/>
          </a:xfrm>
          <a:prstGeom prst="rect">
            <a:avLst/>
          </a:prstGeom>
          <a:ln w="0">
            <a:noFill/>
          </a:ln>
        </p:spPr>
      </p:pic>
      <p:sp>
        <p:nvSpPr>
          <p:cNvPr id="1776" name="TextBox 1"/>
          <p:cNvSpPr/>
          <p:nvPr/>
        </p:nvSpPr>
        <p:spPr>
          <a:xfrm>
            <a:off x="2735280" y="107964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7" name="TextBox 1"/>
          <p:cNvSpPr/>
          <p:nvPr/>
        </p:nvSpPr>
        <p:spPr>
          <a:xfrm>
            <a:off x="2987640" y="633096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and sign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E Form A completion and signing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2F4D-375F-4CA1-804D-69658732C183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EDB7-337F-4950-A0D1-A31E811DFA0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81" name=""/>
          <p:cNvGraphicFramePr/>
          <p:nvPr/>
        </p:nvGraphicFramePr>
        <p:xfrm>
          <a:off x="469800" y="1268280"/>
          <a:ext cx="7458120" cy="3816360"/>
        </p:xfrm>
        <a:graphic>
          <a:graphicData uri="http://schemas.openxmlformats.org/drawingml/2006/table">
            <a:tbl>
              <a:tblPr/>
              <a:tblGrid>
                <a:gridCol w="5821560"/>
                <a:gridCol w="16365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lates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achments 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88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Quality Requirements / Evaluation Criteria – category 4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nder Portal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A.1: Method Statement 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E: Form A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nder Portal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</a:tbl>
          </a:graphicData>
        </a:graphic>
      </p:graphicFrame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. Template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83" name="Object 3"/>
          <p:cNvGraphicFramePr/>
          <p:nvPr/>
        </p:nvGraphicFramePr>
        <p:xfrm>
          <a:off x="6681960" y="3357720"/>
          <a:ext cx="914400" cy="62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960" y="3357720"/>
                    <a:ext cx="91440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4A36-FEE6-484F-9473-D26D73A4BE9D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7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0F38-E460-49F6-A39B-4FC859002C9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88" name="Picture 5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16872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engelight</dc:creator>
  <dc:description/>
  <dc:language>en-US</dc:language>
  <cp:lastModifiedBy>Bongi Tshabalala</cp:lastModifiedBy>
  <cp:lastPrinted>2019-02-20T13:05:04Z</cp:lastPrinted>
  <dcterms:modified xsi:type="dcterms:W3CDTF">2022-09-19T10:58:40Z</dcterms:modified>
  <cp:revision>944</cp:revision>
  <dc:subject/>
  <dc:title>Slide 1</dc:title>
</cp:coreProperties>
</file>